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Georgio" initials="G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<Relationship Id="rId20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10-11-06T20:45:40.649000000" idx="1">
    <p:pos x="5136" y="923"/>
    <p:text>Это видео из интернета. Чтобы включить его в презентацию, скачайте его или напишите мне: g,makarcev@mail.ru - я вышлю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D6C2-E523-493B-B021-B4968854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C0E0-609A-404A-9843-B63A43F4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EA81-7F27-493B-B7D9-277471D1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594A-0F7D-4664-A1F0-AF65C4CA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EED7-5DFC-4190-88E1-90202778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9B97-8512-44F0-A359-7E9F953C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4280-4569-4E63-B4BE-F2C1F204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F03D-F2A9-48C2-9B06-4AC3642C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6D0A-5EFE-4B79-AA0A-F55D3545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6928-3D48-495D-8FA3-012E3DA3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ED91-6669-47AA-A18D-807D909F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E005-66A6-4035-ADFF-AB479BD7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4138-7518-40C0-8284-37964AA1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AEE3C-DEBD-4B92-88D6-15AC54B3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EA17-EC62-4D54-9904-E8099189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3616-84B0-4EC4-9607-AB9A42C1F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D525-FCF9-4ECA-9DCE-FBF04705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4EA2-D268-4594-894C-87E65558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7DF3-588C-4272-836E-11D5799D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75C7-BFED-4915-8CF9-DDADDE3B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5261-7BB4-4BBB-BEEA-3E8D5F92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0B2-583B-456B-8DF5-164E47C8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A208-4665-43C9-B7B5-1F9582D0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0F6E-80C3-4FE5-8B3D-74E8C0F5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379D-7DF1-439D-AE69-8023EF3732D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2340-602E-4482-A100-A219548B4CC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72/Harry-truman.jpg" TargetMode="External"/><Relationship Id="rId2" Type="http://schemas.openxmlformats.org/officeDocument/2006/relationships/hyperlink" Target="http://dic.academic.ru/pictures/wiki/files/67/Churchill_zanaves.gif" TargetMode="External"/><Relationship Id="rId3" Type="http://schemas.openxmlformats.org/officeDocument/2006/relationships/hyperlink" Target="http://img0.liveinternet.ru/images/attach/c/0//52/755/52755549_stalin.jpg" TargetMode="External"/><Relationship Id="rId4" Type="http://schemas.openxmlformats.org/officeDocument/2006/relationships/hyperlink" Target="http://www.youtube.com/watch?v=RU2SxgEwrWo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Истоки холодной войны. Военно-политические блок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дание на урок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то начал холодную войну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563868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Автор презентации: учитель истории ГОУ СОШ № 1975 Макарцев Ю.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33480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6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258840"/>
            <a:ext cx="9144000" cy="65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опрос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Кто же, по Вашему мнению, начал холодную войну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§  1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дание 7 на с. 127 (таблица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сточники после параграфа, вопросы к источника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Дополнительное задание: сообщение на тему: «холодная война» в Ази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441972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сточники презент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рограммы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ультимедиа-диск Новейшая история зарубежных стран. 9 класс. М., 1С: Школа, 2009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нтернет-ресурсы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dic.academic.ru/pictures/wiki/files/72/Harry-truman.jp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dic.academic.ru/pictures/wiki/files/67/Churchill_zanaves.gif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http://img0.liveinternet.ru/images/attach/c/0//52/755/52755549_stalin.jp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http://www.youtube.com/watch?v=RU2SxgEwrW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ка домашнего зад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371600"/>
            <a:ext cx="8001000" cy="51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Когда и где была создана ООН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 1945 г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С какой целью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Для поддержания и укрепления международного мира и безопасности, развития сотрудничества между государств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Что отличало ООН от Лиги Наци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Универсальность ее устава, создание Совета Безопасности ООН, наделенного правом принятия мер в случае необходимости, принцип единогласия членов ООН, право вет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ка домашнего зад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523880"/>
            <a:ext cx="8001000" cy="45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азовите постоянных членов Совета Безопасности О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ША, СССР, Китай, Великобритания, Фран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характеризуйте роль ООН в решении Международных пробл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азовите имена глав государств, участвовавших в Тегеранской и Ялтинской конференция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Ф.Д. Рузвельт, И.В. Сталин, У. Черчил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ка домашнего зада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523880"/>
            <a:ext cx="8001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Что такое геноцид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ассовое истребление людей по расовому, этническому или религиозному призна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Что такое репарац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Возмещение государством в силу мирного договора или иных международных актов ущерба, причинённого им государствам, подвергшимся напад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Фултонская реч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12193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5 марта 1946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812960"/>
            <a:ext cx="5105520" cy="4986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791320" y="1676520"/>
            <a:ext cx="289548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оветская карикатура Бориса Ефимова, изображающая Черчилля во время произнесения Фултонской реч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Интервью И.В. Стали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280" y="1689120"/>
            <a:ext cx="4953240" cy="4086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414680" y="1676520"/>
            <a:ext cx="4538880" cy="4952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04920" y="61722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4 марта 1946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73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ктрина Трумэ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99072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Март 194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1752480"/>
            <a:ext cx="41148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Доктрина (лат. doctrina), или учение — научная, философская, политическая, религиозная или юридическая теория, система воззрений, руководящий теоретический или политический принци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13860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Запишите в тетрадь с терминам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724280" y="1460520"/>
            <a:ext cx="412776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лан Маршалл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295280" y="14652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9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оенно-политические бло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90720" y="191916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АТ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18288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ОВ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28195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4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410080" y="28195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95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23:54:42Z</dcterms:created>
  <dc:creator>"Юрий Макарцев" &lt;webmaster@historichka.ru&gt;</dc:creator>
  <dc:description/>
  <dc:language>en-US</dc:language>
  <cp:lastModifiedBy>Georgio</cp:lastModifiedBy>
  <dcterms:modified xsi:type="dcterms:W3CDTF">2010-11-06T17:45:55Z</dcterms:modified>
  <cp:revision>30</cp:revision>
  <dc:subject/>
  <dc:title>Presentacia_istoki_holodnoy_voyn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